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15D-8415-406C-937F-B4A2AF49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690-2FF4-4750-A0F2-03771CE8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7DD-BE85-4089-AF62-09E6FE27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B14-AB35-4BD8-A956-36BCC211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4D7A-5032-4704-AE6C-4AD6D65D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33B3-B633-4388-B09A-472F401E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B7C5-BF76-4487-98FD-CD6E731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7E3-C1E8-4B95-A7B6-E6D8F6FA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C73-91B9-4B7C-9836-9EE0A1E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E43-7C86-4571-BE16-B1C8341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61C2-2333-42EB-B80F-5966E1D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32F-C8B2-4503-B2A0-FBF9B5DA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35F-C209-4B4C-BC05-884B08D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DD87-1E52-46C4-8A49-221357EB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F4E-B544-4CE3-BA3C-5D9FE867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6AA-BA9D-4E6F-9BE7-E19A5346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57EB-2F07-4CC6-A0FC-98259D65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551C-A699-4620-8928-3EDD98F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D456-8812-4685-B999-9ED3378A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184E-0AE1-4FB0-A8F7-941EB258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419A-8771-4BDD-BC3C-17F60B93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2444-3886-4D6D-B579-23D6C73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0C2-26CD-4A77-9946-A7C393BA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AFFE-42A7-46BF-A097-0C8139DD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0020-2370-40F4-B8DF-4E3C5E1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5F0A-7FC2-4F49-AEE8-4BED0BE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41F1-5962-4166-821C-477FA40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92BC-CB65-43E0-A94B-F2E171A3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E9819-5E5D-467C-81CF-4ADEF910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881F-6763-44E6-B9D8-43138C8C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5887-91E3-4798-AA5C-B7F94F7B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2AFB-15D2-4907-A69B-77360457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78DD-C8FA-4E6C-8911-EBDFCC56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CF-225A-499E-9E88-066006E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C706-BAC5-4398-8C93-7E72249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9CB2-F004-4EB7-93BB-D204300E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7047-56A7-4AAB-933F-E036E3D5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8A8A-C7C4-47D1-B5D5-4391525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DE69-53AB-4D56-ABF0-D2729CA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71E6-A151-4207-A2C9-34618E7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521A-D180-4E4F-A94C-1C71095F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F945-92B7-48B3-88AC-7E10D69E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6BA9-B9A7-4690-8253-7D9215A3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7BAC-372C-4B45-ADB6-F0C6F3DA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2D1-E839-4C7B-B12B-259823E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57CD4-BAD2-4354-86AD-20DB9898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BAA4-E580-46AF-B8A1-2ABF6571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7F275-55AB-460B-A37E-C3035BA2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B3B4B-3778-4E2C-9E95-9567DF90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2829-E936-4A01-9980-40E039A3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77C9B-A82A-42F0-8E74-90E32976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C017-0991-4E80-8265-85C54B1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6AE8-7E05-4416-A7F3-BBBBC39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89DF-2207-4FD1-B6A5-4CF75177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2242-CF27-482C-9A7C-D793B6A6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4FF-1262-4CC4-A88D-190EB438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779B1-BCA4-48DD-90C1-11F88479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CCB63-EDB2-458E-A417-D5FC7A94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51175-2CB1-44EF-AF08-43100BC9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31F05-D8F6-4396-B6CC-1A065F6D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AAD3B-DDA1-4883-9FDC-2EF6E84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AE668-E6C5-456B-A11D-0A577375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0019E-1C7C-4410-9493-0D5FDF30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2224C-854A-41D2-A4C6-E3DD6D3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4AA58-85A4-465B-9A47-79417A9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F1B57-0962-4B58-B6B0-F1C5EFA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913-51E8-4012-98B2-3934DE8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8C337-268B-4B21-9FAE-6472575F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28CD4-A6F2-4978-BA30-FFFEA880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1CB1A-AF65-41C1-A4B6-E0E2DD20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4A477-F7BE-4FBF-9D66-44736E71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4C3E-3B71-43AA-AC5D-C0386325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67B7-0DF8-44C1-8654-D2BC63EC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D67F-E5B8-4CD7-B454-CFDCEE2D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AAADD-8395-4CBF-91A6-6EDBB0C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3A83-C801-4191-89DF-6FD5CD5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5557-1403-4229-9CE7-F72D600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492-C54B-4170-B278-AE3B739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0AF5-1873-4DA3-8375-A6E4A38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EC1F-5FD4-4A36-914A-CF67E55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21EA1-47F8-4C38-BFE8-B6208D6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A597-2483-41A4-8CE1-FFA5EE13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FA0D-509E-49D6-97F4-5E770486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72A-B043-4BCD-A5DD-06722D1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00614-3EBA-4978-83FF-6195494C13F4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C29F4-C4E2-47E8-BDF4-180813407C47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1F50D-1233-443B-88A5-C60CB1145228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BAC01-4C44-4F42-A829-9D9BE1B8549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248DB-019A-4053-8166-F7E2937850DA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BD0E9-5E81-4A72-B12A-5001E6F0D04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24DEB-0754-42ED-8C48-AD780CF2282B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h. 22/23 Warm-up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What is the evidence for evolution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(Review) What are the 3 ways that sexual reproduction produces genetic diversity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What is 1 thing you are grateful for today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Gene pool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all of the alleles for all genes in all the members of the popul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Diploid species: 2 alleles for a gene (homozygous/heterozygous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Fixed allele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all members of a population only have 1 allele for a particular trai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The more fixed alleles a population has, the LOWER the species’ diversity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Hardy-Weinberg Theorm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Hardy-Weinberg Theorm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The allele and genotype frequencies of a population will remain constant from generation to gener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entury Gothic"/>
              </a:rPr>
              <a:t>…</a:t>
            </a:r>
            <a:r>
              <a:rPr b="0" i="1" lang="en-US" sz="2800" spc="-1" strike="noStrike">
                <a:solidFill>
                  <a:srgbClr val="0000ff"/>
                </a:solidFill>
                <a:latin typeface="Century Gothic"/>
              </a:rPr>
              <a:t>UNLESS they are acted upon by forces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other than Mendelian segregation and recombination of allel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86c71"/>
                </a:solidFill>
                <a:uFillTx/>
                <a:latin typeface="Century Gothic"/>
              </a:rPr>
              <a:t>Equilibrium</a:t>
            </a:r>
            <a:r>
              <a:rPr b="1" lang="en-US" sz="2800" spc="-1" strike="noStrike">
                <a:solidFill>
                  <a:srgbClr val="786c71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= allele and genotype frequencies remain </a:t>
            </a:r>
            <a:r>
              <a:rPr b="0" i="1" lang="en-US" sz="2800" spc="-1" strike="noStrike">
                <a:solidFill>
                  <a:srgbClr val="564b3c"/>
                </a:solidFill>
                <a:latin typeface="Century Gothic"/>
              </a:rPr>
              <a:t>constan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Conditions for Hardy-Weinberg equilibrium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mutation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ndom mating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natural selection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Extremely large population siz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gene flow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f </a:t>
            </a:r>
            <a:r>
              <a:rPr b="0" lang="en-US" sz="2800" spc="-1" strike="noStrike" u="sng">
                <a:solidFill>
                  <a:srgbClr val="564b3c"/>
                </a:solidFill>
                <a:uFillTx/>
                <a:latin typeface="Century Gothic"/>
              </a:rPr>
              <a:t>at least one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of these conditions is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met, then the population is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EVOLVING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44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59840" cy="1084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73040" y="17575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64b3c"/>
                </a:solidFill>
                <a:uFillTx/>
                <a:latin typeface="Georgia"/>
              </a:rPr>
              <a:t>Allele Frequencies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Gene with 2 alleles : p, q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 = frequency of dominant allele (A)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q = frequency of recessive allele (a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4" name="Group 6" descr=""/>
          <p:cNvPicPr/>
          <p:nvPr/>
        </p:nvPicPr>
        <p:blipFill>
          <a:blip r:embed="rId2"/>
          <a:stretch/>
        </p:blipFill>
        <p:spPr>
          <a:xfrm>
            <a:off x="993600" y="4395960"/>
            <a:ext cx="3724560" cy="13953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5638680" y="4267080"/>
            <a:ext cx="2210040" cy="155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 – p = q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 – q = 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Diagram 29" descr=""/>
          <p:cNvPicPr/>
          <p:nvPr/>
        </p:nvPicPr>
        <p:blipFill>
          <a:blip r:embed="rId1"/>
          <a:stretch/>
        </p:blipFill>
        <p:spPr>
          <a:xfrm>
            <a:off x="476280" y="407880"/>
            <a:ext cx="8259840" cy="1086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90680" y="1739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64b3c"/>
                </a:solidFill>
                <a:uFillTx/>
                <a:latin typeface="Georgia"/>
                <a:ea typeface="Georgia"/>
              </a:rPr>
              <a:t>Genotypic Frequencies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  <a:ea typeface="Georgia"/>
              </a:rPr>
              <a:t>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  <a:ea typeface="Georgia"/>
              </a:rPr>
              <a:t>3 genotypes (AA, Aa, aa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p</a:t>
            </a:r>
            <a:r>
              <a:rPr b="0" lang="en-US" sz="2800" spc="-1" strike="noStrike" baseline="30000">
                <a:solidFill>
                  <a:srgbClr val="6b7d72"/>
                </a:solidFill>
                <a:latin typeface="Georgia"/>
                <a:ea typeface="Georgia"/>
              </a:rPr>
              <a:t>2</a:t>
            </a: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 = AA (homozygous dominant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2pq = Aa (heterozygous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q</a:t>
            </a:r>
            <a:r>
              <a:rPr b="0" lang="en-US" sz="2800" spc="-1" strike="noStrike" baseline="30000">
                <a:solidFill>
                  <a:srgbClr val="6b7d72"/>
                </a:solidFill>
                <a:latin typeface="Georgia"/>
                <a:ea typeface="Georgia"/>
              </a:rPr>
              <a:t>2</a:t>
            </a: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 = aa (homozygous recessive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8" name="Group 30" descr=""/>
          <p:cNvPicPr/>
          <p:nvPr/>
        </p:nvPicPr>
        <p:blipFill>
          <a:blip r:embed="rId2"/>
          <a:stretch/>
        </p:blipFill>
        <p:spPr>
          <a:xfrm>
            <a:off x="1359000" y="3060720"/>
            <a:ext cx="65102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1490760"/>
            <a:ext cx="35686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Allele frequenc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0" name="Picture 6" descr="23_08aHardyWeinberg-L.jpg"/>
          <p:cNvPicPr/>
          <p:nvPr/>
        </p:nvPicPr>
        <p:blipFill>
          <a:blip r:embed="rId1"/>
          <a:stretch/>
        </p:blipFill>
        <p:spPr>
          <a:xfrm>
            <a:off x="3873600" y="1069920"/>
            <a:ext cx="5040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1490760"/>
            <a:ext cx="35686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Genotypic frequenc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2" name="Picture 5" descr="23_08bHardyWeinberg-L.jpg"/>
          <p:cNvPicPr/>
          <p:nvPr/>
        </p:nvPicPr>
        <p:blipFill>
          <a:blip r:embed="rId1"/>
          <a:stretch/>
        </p:blipFill>
        <p:spPr>
          <a:xfrm>
            <a:off x="3873600" y="642960"/>
            <a:ext cx="506556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Book Antiqua"/>
              </a:rPr>
              <a:t>Strategies for solving H-W Problems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you are given the </a:t>
            </a:r>
            <a:r>
              <a:rPr b="1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genotypes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(AA, Aa, aa), calculate p and q by adding up the total # of A and a alleles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565920" indent="-452520"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you know </a:t>
            </a:r>
            <a:r>
              <a:rPr b="1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phenotypes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, then use “aa” to find q</a:t>
            </a:r>
            <a:r>
              <a:rPr b="0" lang="en-US" sz="2600" spc="-1" strike="noStrike" baseline="30000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, and then q. (p = 1-q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565920" indent="-452520"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To find out if population is evolving, calculate p</a:t>
            </a:r>
            <a:r>
              <a:rPr b="0" lang="en-US" sz="2600" spc="-1" strike="noStrike" baseline="30000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+ 2pq + q</a:t>
            </a:r>
            <a:r>
              <a:rPr b="0" lang="en-US" sz="2600" spc="-1" strike="noStrike" baseline="30000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in </a:t>
            </a:r>
            <a:r>
              <a:rPr b="0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equilibrium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, it should = 1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it DOES NOT = 1, then the population is </a:t>
            </a:r>
            <a:r>
              <a:rPr b="0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evolving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Book Antiqua"/>
              </a:rPr>
              <a:t>Hardy-weinberg practice problem #1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scarlet tiger moth has the following genotypes.  Calculate the allele and genotype frequencies (%) for a population of 1612 moth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AA = 1469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Aa = 138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aa = 5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Allele Frequenc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 =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Genotypic Frequenc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Hardy-weinberg practice problem #2:</a:t>
            </a:r>
            <a:br>
              <a:rPr sz="2800"/>
            </a:br>
            <a:r>
              <a:rPr b="0" lang="en-US" sz="28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PTC Tasters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Taster = AA or Aa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Nontaster = aa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Tasters = ____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Nontasters = ___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q</a:t>
            </a:r>
            <a:r>
              <a:rPr b="0" lang="en-US" sz="2800" spc="-1" strike="noStrike" baseline="30000">
                <a:solidFill>
                  <a:srgbClr val="564b3c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 =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q =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 + q = 1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 = 1 – q =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</a:t>
            </a:r>
            <a:r>
              <a:rPr b="0" lang="en-US" sz="2800" spc="-1" strike="noStrike" baseline="30000">
                <a:solidFill>
                  <a:srgbClr val="564b3c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 + 2pq + q</a:t>
            </a:r>
            <a:r>
              <a:rPr b="0" lang="en-US" sz="2800" spc="-1" strike="noStrike" baseline="30000">
                <a:solidFill>
                  <a:srgbClr val="564b3c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 = 1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h. 23 Warm-up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8920" y="1685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30280" indent="-437040">
              <a:spcBef>
                <a:spcPts val="601"/>
              </a:spcBef>
              <a:buClr>
                <a:srgbClr val="b5ae53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a population of 200 mice, 98 are homozygous dominant for brown coat color (BB), 84 are heterozygous (Bb), and 18 are homozygous (bb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buClr>
                <a:srgbClr val="cf543f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allele frequencies of this population ar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 allele: ___   b allele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buClr>
                <a:srgbClr val="cf543f"/>
              </a:buClr>
              <a:buFont typeface="Century Gothic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genotype frequencies ar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: ___   Bb: ___    bb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437040">
              <a:spcBef>
                <a:spcPts val="601"/>
              </a:spcBef>
              <a:buClr>
                <a:srgbClr val="b5ae53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Use the above info to determine the genotype frequencies of the next genera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 (p): ___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 (q)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 (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: ___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 (2pq): ___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 (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43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auses of evolution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36560" y="4606560"/>
            <a:ext cx="7696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Conditions for Hardy-Weinberg equilibrium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mutation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ndom mating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natural selection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Extremely large population siz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gene flow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f </a:t>
            </a:r>
            <a:r>
              <a:rPr b="0" lang="en-US" sz="2800" spc="-1" strike="noStrike" u="sng">
                <a:solidFill>
                  <a:srgbClr val="564b3c"/>
                </a:solidFill>
                <a:uFillTx/>
                <a:latin typeface="Century Gothic"/>
              </a:rPr>
              <a:t>at least one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of these conditions is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met, then the population is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EVOLVING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34880" y="584280"/>
            <a:ext cx="82296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  <a:ea typeface="ＭＳ Ｐゴシック"/>
              </a:rPr>
              <a:t>Minor Causes of Evolution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#1 - Mut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re, very small changes in allele frequenci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#2 - Nonrandom mating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Affect genotypes, but not allele frequenci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  <a:ea typeface="ＭＳ Ｐゴシック"/>
              </a:rPr>
              <a:t>Major Causes of Evolution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Natural selection, genetic drift, gene flow (#3-5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Major Causes of Evo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5" name="Picture 5" descr="23_01MedGroundFinch-L.jpg"/>
          <p:cNvPicPr/>
          <p:nvPr/>
        </p:nvPicPr>
        <p:blipFill>
          <a:blip r:embed="rId1"/>
          <a:stretch/>
        </p:blipFill>
        <p:spPr>
          <a:xfrm>
            <a:off x="1527120" y="4111560"/>
            <a:ext cx="31352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6" name="Picture 6" descr="23_02SelectionFoodSource-L.jpg"/>
          <p:cNvPicPr/>
          <p:nvPr/>
        </p:nvPicPr>
        <p:blipFill>
          <a:blip r:embed="rId2"/>
          <a:stretch/>
        </p:blipFill>
        <p:spPr>
          <a:xfrm>
            <a:off x="5095800" y="3638520"/>
            <a:ext cx="2560680" cy="2878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5248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#3 – Natural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ndividuals with variations better suited to environment pass more alleles to next gener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Major Causes of Evo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75248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62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#4 – Genetic Drif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53960" indent="-1620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Small populations have greater chance of fluctuations in allele frequencies from one generation to another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53960" indent="-1620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Examples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649080" indent="-162000">
              <a:spcBef>
                <a:spcPts val="700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Founder Effec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649080" indent="-162000">
              <a:spcBef>
                <a:spcPts val="700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Bottleneck Effec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53960" indent="-1620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914400" y="5395680"/>
            <a:ext cx="724536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Genetic Drift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Placeholder 6" descr="23_09GeneticDrift_3-L.jpg"/>
          <p:cNvPicPr/>
          <p:nvPr/>
        </p:nvPicPr>
        <p:blipFill>
          <a:blip r:embed="rId1"/>
          <a:srcRect l="0" t="605" r="0" b="605"/>
          <a:stretch/>
        </p:blipFill>
        <p:spPr>
          <a:xfrm>
            <a:off x="250920" y="380880"/>
            <a:ext cx="87278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Book Antiqua"/>
                <a:ea typeface="ＭＳ Ｐゴシック"/>
              </a:rPr>
              <a:t>Founder Effec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521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1987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A few individuals isolated from larger popul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298440" indent="-1987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Certain alleles under/over represented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Picture 2" descr="http://www-tc.pbs.org/wgbh/evolution/library/06/3/images/l_063_03_l.jpg"/>
          <p:cNvPicPr/>
          <p:nvPr/>
        </p:nvPicPr>
        <p:blipFill>
          <a:blip r:embed="rId1"/>
          <a:stretch/>
        </p:blipFill>
        <p:spPr>
          <a:xfrm>
            <a:off x="4437000" y="3510000"/>
            <a:ext cx="4097520" cy="2343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File:Founder effect.png"/>
          <p:cNvPicPr/>
          <p:nvPr/>
        </p:nvPicPr>
        <p:blipFill>
          <a:blip r:embed="rId2"/>
          <a:stretch/>
        </p:blipFill>
        <p:spPr>
          <a:xfrm>
            <a:off x="457200" y="3510000"/>
            <a:ext cx="3711600" cy="27255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4667400" y="5894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lydactyly  in Amish popul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Book Antiqua"/>
                <a:ea typeface="ＭＳ Ｐゴシック"/>
              </a:rPr>
              <a:t>Bottleneck Effec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1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Sudden change in environment drastically reduces population size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9" name="Picture 4" descr="http://www.ck12.org/ck12/images?id=149351"/>
          <p:cNvPicPr/>
          <p:nvPr/>
        </p:nvPicPr>
        <p:blipFill>
          <a:blip r:embed="rId1"/>
          <a:stretch/>
        </p:blipFill>
        <p:spPr>
          <a:xfrm>
            <a:off x="5172120" y="3041640"/>
            <a:ext cx="3476520" cy="23144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6"/>
          <p:cNvSpPr/>
          <p:nvPr/>
        </p:nvSpPr>
        <p:spPr>
          <a:xfrm>
            <a:off x="5116680" y="54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rthern elephant seals hunted nearly to extinction in Californ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1" name="Picture 8" descr="23_10BottleneckEffect_3-L.jpg"/>
          <p:cNvPicPr/>
          <p:nvPr/>
        </p:nvPicPr>
        <p:blipFill>
          <a:blip r:embed="rId2"/>
          <a:stretch/>
        </p:blipFill>
        <p:spPr>
          <a:xfrm>
            <a:off x="457200" y="3041640"/>
            <a:ext cx="4486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Major Causes of Evo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2040" y="1752120"/>
            <a:ext cx="50500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#5 – Gene Flow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Movement of fertile individuals between popul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Gain/lose allel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educe genetic differences between popul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4" name="Picture 5" descr="23_12aGeneFlowAdapt-L.jpg"/>
          <p:cNvPicPr/>
          <p:nvPr/>
        </p:nvPicPr>
        <p:blipFill>
          <a:blip r:embed="rId1"/>
          <a:stretch/>
        </p:blipFill>
        <p:spPr>
          <a:xfrm>
            <a:off x="5442120" y="2089080"/>
            <a:ext cx="324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534c"/>
                </a:solidFill>
                <a:latin typeface="Book Antiqua"/>
              </a:rPr>
              <a:t>How does natural selection bring about adaptive evolution?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6560" y="4606560"/>
            <a:ext cx="7696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h. 23 warm-up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Use the following information to help you answer the question below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Population = 1000 peopl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AA = 160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Aa = 480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aa = 36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What are the genotype ratios?  Allele frequencies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Use directional, stabilizing or disruptive selection to answer the following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mice in the Arizona desert have either dark or light fur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rds produce 4-5 eggs per clutch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verage human baby weighs 7 lbs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arwin's finches and beak size during drought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10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Diagram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4698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66480" y="1752120"/>
            <a:ext cx="8305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Natural selection can alter frequency distribution of heritable traits in 3 ways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Directional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Disruptive (diversifying)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Stabilizing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9" name="Picture 5" descr="disrupt"/>
          <p:cNvPicPr/>
          <p:nvPr/>
        </p:nvPicPr>
        <p:blipFill>
          <a:blip r:embed="rId2"/>
          <a:stretch/>
        </p:blipFill>
        <p:spPr>
          <a:xfrm>
            <a:off x="4952880" y="39304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img.sparknotes.com/figures/A/a3aa6bb95c7d70781cc0089d17f9160f/direct.gif"/>
          <p:cNvPicPr/>
          <p:nvPr/>
        </p:nvPicPr>
        <p:blipFill>
          <a:blip r:embed="rId3"/>
          <a:stretch/>
        </p:blipFill>
        <p:spPr>
          <a:xfrm>
            <a:off x="4952880" y="4076640"/>
            <a:ext cx="4000680" cy="1981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http://img.sparknotes.com/figures/A/a3aa6bb95c7d70781cc0089d17f9160f/stable.gif"/>
          <p:cNvPicPr/>
          <p:nvPr/>
        </p:nvPicPr>
        <p:blipFill>
          <a:blip r:embed="rId4"/>
          <a:stretch/>
        </p:blipFill>
        <p:spPr>
          <a:xfrm>
            <a:off x="4952880" y="3930480"/>
            <a:ext cx="4000680" cy="26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iagram 4" descr=""/>
          <p:cNvPicPr/>
          <p:nvPr/>
        </p:nvPicPr>
        <p:blipFill>
          <a:blip r:embed="rId1"/>
          <a:stretch/>
        </p:blipFill>
        <p:spPr>
          <a:xfrm>
            <a:off x="378000" y="0"/>
            <a:ext cx="8540640" cy="14508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60360" y="5322960"/>
            <a:ext cx="293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Directional Selection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: eg. larger black bears survive extreme cold better than small on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3308400" y="53038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Disruptive Selection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eg. small beaks for small seeds; large beaks for large seed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6172200" y="53197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Stabilizing Selection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: eg. narrow range of human birth weigh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6" name="Picture 8" descr="23_13_SelectionModes-L.jpg"/>
          <p:cNvPicPr/>
          <p:nvPr/>
        </p:nvPicPr>
        <p:blipFill>
          <a:blip r:embed="rId2"/>
          <a:stretch/>
        </p:blipFill>
        <p:spPr>
          <a:xfrm>
            <a:off x="868320" y="88920"/>
            <a:ext cx="736128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Sexual selec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Form of natural selection – certain individuals more likely to obtain mates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entury Gothic"/>
              </a:rPr>
              <a:t>Sexual dimorphism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: difference between 2 sexes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Size, color, ornamentation, behavior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9" name="Picture 5" descr="23_15SexualDimorphism-L.jpg"/>
          <p:cNvPicPr/>
          <p:nvPr/>
        </p:nvPicPr>
        <p:blipFill>
          <a:blip r:embed="rId1"/>
          <a:stretch/>
        </p:blipFill>
        <p:spPr>
          <a:xfrm>
            <a:off x="382680" y="3797280"/>
            <a:ext cx="3971880" cy="27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0" name="Picture 4" descr="http://26.media.tumblr.com/tumblr_lh047lpMjQ1qatyxoo1_r1_500.jpg"/>
          <p:cNvPicPr/>
          <p:nvPr/>
        </p:nvPicPr>
        <p:blipFill>
          <a:blip r:embed="rId2"/>
          <a:stretch/>
        </p:blipFill>
        <p:spPr>
          <a:xfrm>
            <a:off x="4619520" y="3797280"/>
            <a:ext cx="4127760" cy="27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Sexual selec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entury Gothic"/>
              </a:rPr>
              <a:t>Intrasexual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– selection within same sex (eg. M compete with other M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entury Gothic"/>
              </a:rPr>
              <a:t>Intersexual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– mate choice (eg. F choose showy M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1989000" y="3276720"/>
            <a:ext cx="49849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Preserving genetic vari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entury Gothic"/>
                <a:ea typeface="ＭＳ Ｐゴシック"/>
              </a:rPr>
              <a:t>Diploidy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: hide recessive alleles that are less favorable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entury Gothic"/>
                <a:ea typeface="ＭＳ Ｐゴシック"/>
              </a:rPr>
              <a:t>Heterozygote advantage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: greater fitness than homozygotes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eg. Sickle cell disease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6" name="Picture 2" descr="http://www.frcblog.com/wp-content/uploads/2009/12/sicklecells2.jpg"/>
          <p:cNvPicPr/>
          <p:nvPr/>
        </p:nvPicPr>
        <p:blipFill>
          <a:blip r:embed="rId1"/>
          <a:stretch/>
        </p:blipFill>
        <p:spPr>
          <a:xfrm>
            <a:off x="1969920" y="4348080"/>
            <a:ext cx="2676600" cy="21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7" name="Picture 4" descr="23_17MalariaSickleCelMap-L.jpg"/>
          <p:cNvPicPr/>
          <p:nvPr/>
        </p:nvPicPr>
        <p:blipFill>
          <a:blip r:embed="rId2"/>
          <a:stretch/>
        </p:blipFill>
        <p:spPr>
          <a:xfrm>
            <a:off x="5095800" y="3395520"/>
            <a:ext cx="3438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Book Antiqua"/>
                <a:ea typeface="ＭＳ Ｐゴシック"/>
              </a:rPr>
              <a:t>Natural selection cannot fashion perfect organisms.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, natural selection, and the environment interact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ample Problem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3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Define the following examples as directional, disruptive, or stabilizing selection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Tiger cubs usually weigh 2-3 lbs. at birth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Butterflies in 2 different colors each represent a species distasteful to bird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Brightly colored birds mate more frequently than drab birds of same speci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Fossil evidence of horse size increasing over time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0368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apter 23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534c"/>
                </a:solidFill>
                <a:latin typeface="Book Antiqua"/>
              </a:rPr>
              <a:t>The Evolution of Populations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3" descr="23_01MedGroundFinch-L.jpg"/>
          <p:cNvPicPr/>
          <p:nvPr/>
        </p:nvPicPr>
        <p:blipFill>
          <a:blip r:embed="rId1"/>
          <a:stretch/>
        </p:blipFill>
        <p:spPr>
          <a:xfrm>
            <a:off x="2224080" y="741240"/>
            <a:ext cx="3367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7d72"/>
                </a:solidFill>
                <a:latin typeface="Book Antiqua"/>
              </a:rPr>
              <a:t>What you must know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How mutation and sexual reproduction each produce genetic variation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The conditions for Hardy-Weinberg equilibrium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How to use the Hardy-Weinburg equation to calculate allelic frequencies and to test whether a population is evolving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mallest unit of evolution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Microevolution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change in the allele frequencies of a population over gener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1803240" y="3030480"/>
            <a:ext cx="55245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34880" y="374400"/>
            <a:ext cx="5905440" cy="59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Darwin did not know how organisms passed traits to offspring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1866 - Mendel published his paper on genetic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Mendelian genetics supports Darwin</a:t>
            </a:r>
            <a:r>
              <a:rPr b="0" lang="ja-JP" sz="28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s theory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Evolution is based on </a:t>
            </a:r>
            <a:r>
              <a:rPr b="1" lang="en-US" sz="2800" spc="-1" strike="noStrike" u="sng">
                <a:solidFill>
                  <a:srgbClr val="564b3c"/>
                </a:solidFill>
                <a:uFillTx/>
                <a:latin typeface="Century Gothic"/>
              </a:rPr>
              <a:t>genetic vari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2" descr="http://diogenesii.files.wordpress.com/2008/01/charles_darwin_1854.jpg"/>
          <p:cNvPicPr/>
          <p:nvPr/>
        </p:nvPicPr>
        <p:blipFill>
          <a:blip r:embed="rId1"/>
          <a:stretch/>
        </p:blipFill>
        <p:spPr>
          <a:xfrm>
            <a:off x="6566040" y="351000"/>
            <a:ext cx="1882800" cy="29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7" name="Picture 4" descr="http://history.nih.gov/exhibits/nirenberg/images/photos/01_mendel_pu.jpg"/>
          <p:cNvPicPr/>
          <p:nvPr/>
        </p:nvPicPr>
        <p:blipFill>
          <a:blip r:embed="rId2"/>
          <a:stretch/>
        </p:blipFill>
        <p:spPr>
          <a:xfrm>
            <a:off x="6340320" y="3562200"/>
            <a:ext cx="2305080" cy="301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ources of Genetic Variation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Point mutations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changes in one base (eg. sickle cell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Chromosomal mutations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delete, duplicate, disrupt, rearrange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usually harmful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Sexual recombination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contributes to most of genetic variation in a popul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754200" indent="-343080">
              <a:lnSpc>
                <a:spcPct val="90000"/>
              </a:lnSpc>
              <a:spcBef>
                <a:spcPts val="700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Crossing Over (Meiosis – Prophase I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754200" indent="-343080">
              <a:lnSpc>
                <a:spcPct val="90000"/>
              </a:lnSpc>
              <a:spcBef>
                <a:spcPts val="700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ndependent Assortment of Chromosomes (during meiosis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754200" indent="-343080">
              <a:lnSpc>
                <a:spcPct val="90000"/>
              </a:lnSpc>
              <a:spcBef>
                <a:spcPts val="700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ndom Fertilization (sperm + egg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3"/>
          <p:cNvGrpSpPr/>
          <p:nvPr/>
        </p:nvGrpSpPr>
        <p:grpSpPr>
          <a:xfrm>
            <a:off x="457200" y="958680"/>
            <a:ext cx="8229600" cy="1587600"/>
            <a:chOff x="457200" y="958680"/>
            <a:chExt cx="8229600" cy="1587600"/>
          </a:xfrm>
        </p:grpSpPr>
        <p:sp>
          <p:nvSpPr>
            <p:cNvPr id="351" name="Rounded Rectangle 4"/>
            <p:cNvSpPr/>
            <p:nvPr/>
          </p:nvSpPr>
          <p:spPr>
            <a:xfrm>
              <a:off x="457200" y="958680"/>
              <a:ext cx="8229600" cy="1587600"/>
            </a:xfrm>
            <a:prstGeom prst="roundRect">
              <a:avLst>
                <a:gd name="adj" fmla="val 16667"/>
              </a:avLst>
            </a:prstGeom>
            <a:solidFill>
              <a:srgbClr val="93a2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Rounded Rectangle 4"/>
            <p:cNvSpPr/>
            <p:nvPr/>
          </p:nvSpPr>
          <p:spPr>
            <a:xfrm>
              <a:off x="534960" y="1036440"/>
              <a:ext cx="807408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9600" bIns="12960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en-US" sz="3200" spc="-1" strike="noStrike" u="sng">
                  <a:solidFill>
                    <a:srgbClr val="660066"/>
                  </a:solidFill>
                  <a:uFillTx/>
                  <a:latin typeface="Century Gothic"/>
                </a:rPr>
                <a:t>Population genetics</a:t>
              </a: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: study of how populations change genetically over time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3" name="Group 6"/>
          <p:cNvGrpSpPr/>
          <p:nvPr/>
        </p:nvGrpSpPr>
        <p:grpSpPr>
          <a:xfrm>
            <a:off x="457200" y="3279600"/>
            <a:ext cx="8229600" cy="2471760"/>
            <a:chOff x="457200" y="3279600"/>
            <a:chExt cx="8229600" cy="2471760"/>
          </a:xfrm>
        </p:grpSpPr>
        <p:sp>
          <p:nvSpPr>
            <p:cNvPr id="354" name="Rounded Rectangle 7"/>
            <p:cNvSpPr/>
            <p:nvPr/>
          </p:nvSpPr>
          <p:spPr>
            <a:xfrm>
              <a:off x="457200" y="3279600"/>
              <a:ext cx="8229600" cy="2471760"/>
            </a:xfrm>
            <a:prstGeom prst="roundRect">
              <a:avLst>
                <a:gd name="adj" fmla="val 16667"/>
              </a:avLst>
            </a:prstGeom>
            <a:solidFill>
              <a:srgbClr val="93a2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Rounded Rectangle 4"/>
            <p:cNvSpPr/>
            <p:nvPr/>
          </p:nvSpPr>
          <p:spPr>
            <a:xfrm>
              <a:off x="577800" y="3400200"/>
              <a:ext cx="7988400" cy="22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9600" bIns="12960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en-US" sz="3200" spc="-1" strike="noStrike" u="sng">
                  <a:solidFill>
                    <a:srgbClr val="660066"/>
                  </a:solidFill>
                  <a:uFillTx/>
                  <a:latin typeface="Century Gothic"/>
                </a:rPr>
                <a:t>Population</a:t>
              </a: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: group of individuals that live in the same area and interbreed, producing fertile offspring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12:32Z</dcterms:created>
  <dc:creator>local</dc:creator>
  <dc:description/>
  <dc:language>en-US</dc:language>
  <cp:lastModifiedBy>local</cp:lastModifiedBy>
  <dcterms:modified xsi:type="dcterms:W3CDTF">2012-02-08T20:32:35Z</dcterms:modified>
  <cp:revision>30</cp:revision>
  <dc:subject/>
  <dc:title>The Evolution of Populations</dc:title>
</cp:coreProperties>
</file>